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B0A4-3F20-4B59-AD64-4DFA4026A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7EF7-DB69-474E-9CB0-67E30A261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7FCB-EED9-45CC-9A88-C5236FE30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8CC5-4DAB-4AB5-8759-9160C1145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8C7CB-B39A-4D37-BB1E-D708B9CBD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9A200-A162-4FBF-BA95-7202240E7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3EAC4-3E28-40FA-980B-12FBF296E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6F63F-E090-4893-ABE7-7A2B74036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67E40-1FD3-43A6-9270-1B556CFEF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56A5B-3FDD-4BFD-B5E4-DFEFA12D3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B9C91-CB48-4F88-B0D8-2C39E3C4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83C9-2B3A-4EEE-AA82-0CF82D881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E9AA2-CC05-4748-8C88-4E269E26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D6012-3A5C-4F15-ACB0-ABFA873F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27B72-F447-4039-BCF6-0A4D903C6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D1C0D-EC43-46E0-8AD4-78940B379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DBABA-E0B0-41DF-83BB-9F03B41DE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BBEA-7D89-42F9-933A-92F4CDE5F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E874-9C60-4577-9794-DB901F8E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7ED8-B19E-4787-B7D2-4BD98981A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C38E-7A55-4CF2-8EEC-241F2CDB1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4D21-34EE-459B-9606-D4D0CCE7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A71A-5237-46C8-B09B-1C295E1A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7AA5-5AA0-4F70-9EDD-F1C3FECE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8D720-B6EA-4932-9A16-7E775E547BC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AC065-F806-4612-81B5-C0994ED091D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doni MT Black"/>
              </a:rPr>
              <a:t>Mi mans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23623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lackadder ITC"/>
              </a:rPr>
              <a:t>Por~Carolyn Klep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9144000" cy="32004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990720" y="380880"/>
            <a:ext cx="2895480" cy="1932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5791320" y="152280"/>
            <a:ext cx="2438280" cy="138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Monotype Corsiva"/>
              </a:rPr>
              <a:t>La Garaj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ristina"/>
              </a:rPr>
              <a:t>          </a:t>
            </a:r>
            <a:r>
              <a:rPr b="0" lang="en-US" sz="3600" spc="-1" strike="noStrike">
                <a:solidFill>
                  <a:srgbClr val="000000"/>
                </a:solidFill>
                <a:latin typeface="Pristina"/>
              </a:rPr>
              <a:t>Es una graje. La garaje es muy fabulos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981080" y="2514600"/>
            <a:ext cx="533412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stellar"/>
              </a:rPr>
              <a:t>La </a:t>
            </a:r>
            <a:r>
              <a:rPr b="0" lang="en-US" sz="3400" spc="-1" strike="noStrike">
                <a:solidFill>
                  <a:srgbClr val="000000"/>
                </a:solidFill>
                <a:latin typeface="Castellar"/>
              </a:rPr>
              <a:t>mansió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Bodoni MT Condensed"/>
              </a:rPr>
              <a:t>Es una mansión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doni MT Condensed"/>
              </a:rPr>
              <a:t>La </a:t>
            </a:r>
            <a:r>
              <a:rPr b="0" lang="en-US" sz="2800" spc="-1" strike="noStrike">
                <a:solidFill>
                  <a:srgbClr val="000000"/>
                </a:solidFill>
                <a:latin typeface="Bodoni MT Condensed"/>
              </a:rPr>
              <a:t>mansión</a:t>
            </a:r>
            <a:r>
              <a:rPr b="0" lang="en-US" sz="3200" spc="-1" strike="noStrike">
                <a:solidFill>
                  <a:srgbClr val="000000"/>
                </a:solidFill>
                <a:latin typeface="Bodoni MT Condensed"/>
              </a:rPr>
              <a:t> es muy grande y muy moder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124080" y="2286000"/>
            <a:ext cx="316548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odoni MT"/>
              </a:rPr>
              <a:t>La Cocin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Bradley Hand ITC"/>
              </a:rPr>
              <a:t>Es una cocina.La cocina es bella y nuev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743200" y="2666880"/>
            <a:ext cx="371484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urlz MT"/>
              </a:rPr>
              <a:t>La Ba</a:t>
            </a:r>
            <a:r>
              <a:rPr b="0" lang="en-US" sz="4400" spc="-1" strike="noStrike">
                <a:solidFill>
                  <a:srgbClr val="000000"/>
                </a:solidFill>
                <a:latin typeface="Curlz MT"/>
                <a:ea typeface="Arial"/>
              </a:rPr>
              <a:t>ñ</a:t>
            </a:r>
            <a:r>
              <a:rPr b="0" lang="en-US" sz="4400" spc="-1" strike="noStrike">
                <a:solidFill>
                  <a:srgbClr val="000000"/>
                </a:solidFill>
                <a:latin typeface="Curlz MT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Es una ba</a:t>
            </a: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  <a:ea typeface="Arial"/>
              </a:rPr>
              <a:t>ñ</a:t>
            </a: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La ba</a:t>
            </a: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  <a:ea typeface="Arial"/>
              </a:rPr>
              <a:t>ño es muy luj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  <a:ea typeface="Arial"/>
              </a:rPr>
              <a:t>No es pequeñ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057400" y="2971800"/>
            <a:ext cx="502920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Elephant"/>
              </a:rPr>
              <a:t>La Cuart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rte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Forte"/>
              </a:rPr>
              <a:t>Es una cuarto. La cuarto es magn</a:t>
            </a:r>
            <a:r>
              <a:rPr b="0" lang="en-US" sz="3200" spc="-1" strike="noStrike">
                <a:solidFill>
                  <a:srgbClr val="000000"/>
                </a:solidFill>
                <a:latin typeface="Forte"/>
                <a:ea typeface="Arial"/>
              </a:rPr>
              <a:t>í</a:t>
            </a:r>
            <a:r>
              <a:rPr b="0" lang="en-US" sz="3200" spc="-1" strike="noStrike">
                <a:solidFill>
                  <a:srgbClr val="000000"/>
                </a:solidFill>
                <a:latin typeface="Forte"/>
              </a:rPr>
              <a:t>fico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rte"/>
              </a:rPr>
              <a:t>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Forte"/>
              </a:rPr>
              <a:t>estup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438280" y="2743200"/>
            <a:ext cx="476280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a Sal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Gigi"/>
              </a:rPr>
              <a:t>Es una sal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gi"/>
              </a:rPr>
              <a:t>La sala es muy fabulo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81080" y="2438280"/>
            <a:ext cx="541044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Stout"/>
              </a:rPr>
              <a:t>La Come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Engravers MT"/>
              </a:rPr>
              <a:t>Es una comedor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Engravers MT"/>
              </a:rPr>
              <a:t>La comedor 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ngravers MT"/>
              </a:rPr>
              <a:t>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Engravers MT"/>
              </a:rPr>
              <a:t>neuva y be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514600" y="2819520"/>
            <a:ext cx="434340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La Pati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rint MT Shado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Imprint MT Shadow"/>
              </a:rPr>
              <a:t>Es una patio. La patio bonita y muy  luj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981080" y="2590920"/>
            <a:ext cx="533412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ench Script MT"/>
              </a:rPr>
              <a:t>La Jard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Felix Titling"/>
              </a:rPr>
              <a:t>Es una</a:t>
            </a:r>
            <a:r>
              <a:rPr b="0" lang="en-US" sz="3200" spc="-1" strike="noStrike">
                <a:solidFill>
                  <a:srgbClr val="000000"/>
                </a:solidFill>
                <a:latin typeface="Felix Titling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elix Titling"/>
              </a:rPr>
              <a:t>jarden. La jarden es muy boni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Felix Titling"/>
              </a:rPr>
              <a:t>No es antigu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438280" y="3124080"/>
            <a:ext cx="4286520" cy="28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1T12:25:07Z</dcterms:created>
  <dc:creator>kleppercar</dc:creator>
  <dc:description/>
  <dc:language>en-US</dc:language>
  <cp:lastModifiedBy>kleppercar</cp:lastModifiedBy>
  <dcterms:modified xsi:type="dcterms:W3CDTF">2013-04-04T15:57:20Z</dcterms:modified>
  <cp:revision>5</cp:revision>
  <dc:subject/>
  <dc:title>Ma Casa</dc:title>
</cp:coreProperties>
</file>